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1BE1-B8E0-4E8A-8E2A-59CE8AB94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187200" y="31402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FB7B-BB55-4C60-B646-6FB24BA0F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06584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F647-E5A9-421B-9DA2-EC2C415F9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190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52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1872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6190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52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53DF-7190-4792-A30F-5C6EA4808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22280" y="228240"/>
            <a:ext cx="829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1C5F-BD89-422E-B3FC-1D039A561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6584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-187200" y="31402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6584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190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25200" y="99072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-1872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190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25200" y="31402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151C-EE3D-4990-926D-A2903A11F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50E4-3137-44E6-9036-172402173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8387-25C7-4881-867B-61454F5FD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2280" y="228240"/>
            <a:ext cx="829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BDC7-BA11-4C0B-9E29-E091AADBA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4C62-0CD5-4A07-8BEE-E56A0D434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65840" y="31402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AF13-6F58-4273-8559-C7760C3A6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2280" y="227160"/>
            <a:ext cx="829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8720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65840" y="99072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187200" y="31402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F823-B7B8-40FF-8EFA-A16FABC76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62BE-EF0B-48B3-ACB8-E274422E4A16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2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74456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9" descr="project_management04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1" descr=""/>
          <p:cNvPicPr/>
          <p:nvPr/>
        </p:nvPicPr>
        <p:blipFill>
          <a:blip r:embed="rId3"/>
          <a:stretch/>
        </p:blipFill>
        <p:spPr>
          <a:xfrm>
            <a:off x="2819520" y="3657600"/>
            <a:ext cx="3921120" cy="288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187200" y="99072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5476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Guide to</a:t>
            </a:r>
            <a:br>
              <a:rPr sz="4800"/>
            </a:b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3BD2-D140-4CF4-B4E2-2BFA3909A4DF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ules for the sessio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22280" y="1563840"/>
            <a:ext cx="826452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idea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judgement or criticism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bile phones switch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ticipants cannot leave the room during the brainstorm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DEDB-45D5-46B8-84D4-2BBA23D63FA5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 brainstorming techniq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2280" y="1563840"/>
            <a:ext cx="829944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sent the problem or opportunity for which brainstorming is being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ocate 3-5 minutes to write on the post-it notes as many ideas as possible – one idea per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ch person quickly writes their thoughts onto the post-it notes regardless of how impractical, outrageous, extreme, crazy they may be (do not filter the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D2F-6F46-4049-AB99-336895AA0C2F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ffinity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2520" y="1563840"/>
            <a:ext cx="829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ch person in turn sticks their post-it notes on the whiteboard, putting their note near to an idea that is similar to theirs.  This should result in clusters of post-it notes representing similar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iew the ideas by cluster.  For each type of idea ask the group “How could we make this work?” Discuss each variation of the idea and refine to develop a possibl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AD4A-6168-47C1-9E6F-80E1394B84F9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mmary and future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2520" y="1563840"/>
            <a:ext cx="82342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up a summary of each type of idea/solution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ermine an action plan for working through the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ction plan may be to test or further research the alternatives identified to select a shortlist of the most suitable solutions for further eval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5D90-1E7E-45EE-9A30-E338D3AA6CFD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142640"/>
            <a:ext cx="64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brainsto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y use brainstorming techniq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ainstorming is not a structure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process of brainst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ing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ules for the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rainstorm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ffin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mmary and futur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046-2B20-45F6-A8FE-B6133C14551D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is brainstorm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99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ainstorming is a means of generating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ainstorming can be used to identify alternatives, obtain a complete list of items and to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are a variety of brainstorm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ommon principle of brainstorming is to set aside the restrictive thinking processes so that many ideas can be 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77C9-6B1C-4AE8-AE91-78516D0A9671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n to use brainstorm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veloping the solution definition, particularly in identifying alternative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dentifying all potential risks on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veloping the Work Breakdown Structure (identifying all the deliverables and work ite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aling with difficult problems that arise during the course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125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can use brainstorming in a projec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61D-1F45-4CDB-8A12-45AFEB252EE6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y use brainstorming techniqu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1920" y="1252440"/>
            <a:ext cx="850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ainstorming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eak through traditional thinking about a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nerate new ways of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an environment for building on new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duce the tendency to prematurely discard new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ilitate team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courage team problem sol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A4C-744F-487A-9689-CA8DDB7E953B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9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rainstorming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not a structured mee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576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ainstormin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dea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su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ergent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e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406760" y="1609560"/>
            <a:ext cx="41277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ructured meeting 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xed ag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7751-D551-4B55-BB0F-A9CD0BF64982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cess of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ainstor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54120" y="1563840"/>
            <a:ext cx="651528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ules for th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unning the brainstorm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finit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mmary and furthe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B41-B4CE-4A3B-95D2-F279AEECFCFB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8"/>
          <p:cNvSpPr/>
          <p:nvPr/>
        </p:nvSpPr>
        <p:spPr>
          <a:xfrm>
            <a:off x="828720" y="1563840"/>
            <a:ext cx="71978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cation:  preferable to be held away from normal plac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om:  natural light, plenty of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terials: whiteboard and pens.  Provide a pack of post-it notes and pen for each attend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719136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498-4336-4D27-9C4E-8F628931B2EA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tting the scen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014640" y="2077920"/>
            <a:ext cx="1587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4840" indent="-204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1600200"/>
            <a:ext cx="836280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299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lain the brainstorming tech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99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ecify th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2999"/>
              </a:spcAft>
              <a:buClr>
                <a:srgbClr val="cc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sening up:  use a free thinking exercise and/or a practice brainstorming session*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 example: how could safety of taxi drivers be im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56386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facilitator provides exercises and determines when the participants are ready to proceed with the techn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7:21Z</dcterms:created>
  <dc:creator>mikew</dc:creator>
  <dc:description/>
  <dc:language>en-US</dc:language>
  <cp:lastModifiedBy>Bright</cp:lastModifiedBy>
  <cp:lastPrinted>2000-08-10T20:14:15Z</cp:lastPrinted>
  <dcterms:modified xsi:type="dcterms:W3CDTF">2013-08-22T11:07:15Z</dcterms:modified>
  <cp:revision>8</cp:revision>
  <dc:subject/>
  <dc:title>Brainstorming</dc:title>
</cp:coreProperties>
</file>